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24A81-6713-48BD-84CD-5925D0597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B04B8-0BBB-4F20-9091-A5DC3063B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7EC00-79C9-4644-BC56-6392B91C8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16FDC-0873-4C2E-BACC-C41A519B8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166B1-D050-4588-BED9-6D80606F1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7813B-A46E-4E0A-9464-66A70571B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BF807-3813-4D84-B82E-156368862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BE733-2C73-480D-BA17-DAC86D8BD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D6EDD-609D-4F5C-91F8-B6261F6C4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190F3-8703-4C21-BA15-32D20E9FC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EA01D-3205-420E-89D4-D2CE3683F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1D6D1-7D58-433E-9058-D95E33BA4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390C4-1E52-49EC-878B-6C167A879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1BE3D-9AB1-4FD2-8A65-FDD3AE851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71338-127F-402A-8DF3-E3D0C95FD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5D840-D7E9-41E6-86C5-25DD6F404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C3D21-705C-4233-926B-668BC82AC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31595-7D7A-404F-96BF-DA0DC77BB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02BCF-2005-41D4-8584-F5E315693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E0380-CD83-4BF7-921D-12191E41B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079DE-4842-4477-96D5-01C2327E6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39A54-009A-4F0A-9AF0-9FA1FCF8A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F5876-FD7E-460C-BDF4-A40CD062A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9305D-2972-4D71-BD41-9FD17E2B9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1" name="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000f1e"/>
                </a:gs>
                <a:gs pos="50000">
                  <a:srgbClr val="0099cc"/>
                </a:gs>
                <a:gs pos="100000">
                  <a:srgbClr val="000f1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f1e"/>
                </a:gs>
                <a:gs pos="50000">
                  <a:srgbClr val="003366"/>
                </a:gs>
                <a:gs pos="100000">
                  <a:srgbClr val="000f1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f1e"/>
                </a:gs>
                <a:gs pos="50000">
                  <a:srgbClr val="003366"/>
                </a:gs>
                <a:gs pos="100000">
                  <a:srgbClr val="000f1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50000">
                  <a:srgbClr val="000f1e"/>
                </a:gs>
                <a:gs pos="100000">
                  <a:srgbClr val="0033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50000">
                  <a:srgbClr val="003366"/>
                </a:gs>
                <a:gs pos="100000">
                  <a:srgbClr val="0033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50000">
                  <a:srgbClr val="003366"/>
                </a:gs>
                <a:gs pos="100000">
                  <a:srgbClr val="0033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50000">
                  <a:srgbClr val="003366"/>
                </a:gs>
                <a:gs pos="100000">
                  <a:srgbClr val="0033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50000">
                  <a:srgbClr val="003366"/>
                </a:gs>
                <a:gs pos="100000">
                  <a:srgbClr val="0033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B3311-7688-4348-A3F1-CBBB9AC43C5B}" type="slidenum"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51" name="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000f1e"/>
                </a:gs>
                <a:gs pos="50000">
                  <a:srgbClr val="0099cc"/>
                </a:gs>
                <a:gs pos="100000">
                  <a:srgbClr val="000f1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f1e"/>
                </a:gs>
                <a:gs pos="50000">
                  <a:srgbClr val="003366"/>
                </a:gs>
                <a:gs pos="100000">
                  <a:srgbClr val="000f1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f1e"/>
                </a:gs>
                <a:gs pos="50000">
                  <a:srgbClr val="003366"/>
                </a:gs>
                <a:gs pos="100000">
                  <a:srgbClr val="000f1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50000">
                  <a:srgbClr val="000f1e"/>
                </a:gs>
                <a:gs pos="100000">
                  <a:srgbClr val="0033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50000">
                  <a:srgbClr val="003366"/>
                </a:gs>
                <a:gs pos="100000">
                  <a:srgbClr val="0033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50000">
                  <a:srgbClr val="003366"/>
                </a:gs>
                <a:gs pos="100000">
                  <a:srgbClr val="0033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50000">
                  <a:srgbClr val="003366"/>
                </a:gs>
                <a:gs pos="100000">
                  <a:srgbClr val="0033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50000">
                  <a:srgbClr val="003366"/>
                </a:gs>
                <a:gs pos="100000">
                  <a:srgbClr val="0033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33992-8BAB-4C54-9282-A99D479BFACF}" type="slidenum"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4360" y="1916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Smlouvy s rodiči jako cesta ke komunikaci se školou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hDr. Jana Zapletalová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33cccc"/>
                </a:solidFill>
                <a:latin typeface="Times New Roman"/>
              </a:rPr>
              <a:t>Smlouvy s rodiči</a:t>
            </a: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628280"/>
            <a:ext cx="77724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Na pozadí spoluprác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sané x ústn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Stanovují pravidla pro spolupráci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ísemná pravidla podtrhují vážnost sdělení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omáhají k větší zodpovědnosti a omezují manipulac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 případech nedorozumění jsou odrazovým můstkem k další komunikac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ymezují spoluzodpovědnost rodičů a ško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Stanovují pravidla a sankce za nedodržení domluvených pravid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33cccc"/>
                </a:solidFill>
                <a:latin typeface="Times New Roman"/>
              </a:rPr>
              <a:t>Co je třeba dodržet</a:t>
            </a: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557000"/>
            <a:ext cx="777240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Efektivita smluvních ujednání je ovlivněna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zájemnou důvěro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Srozumitelností nastavených pravid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ymezením platnosti smlouvy v čase a možnosti jejich úprav (dlouhodobé, krátkodobé, krizové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řesným specifikováním opatřen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Stanovením zodpovědností plnění závazků, forem komunikace a možných sankc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nímání možností smlouvy v kontextu typu řešeného problém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33cccc"/>
                </a:solidFill>
                <a:latin typeface="Times New Roman"/>
              </a:rPr>
              <a:t>Proč vlastně smlouvy s rodiči..</a:t>
            </a: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557360"/>
            <a:ext cx="77724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Kodifikace pravidel vede k jejich větší srozumitelnosti a tím se otvírá prostor k jejich dodržován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Škola pracuje zejména s faktory spolupráce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řestože si je vědoma opory v zákonných normách (školský zákon, zákon o rodině §31-zodpovědnost rodičů,§43 a §44 výchovná opatření, trestní zákon – ohrožení výchovy dětí..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reventivní charakter smluv i ve vztahu k dění ve ško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ravidelné vyhodnocování poskytuje dobrou zpětnou vazbu oběma straná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33cccc"/>
                </a:solidFill>
                <a:latin typeface="Times New Roman"/>
              </a:rPr>
              <a:t>Smlouvy s rodiči jako cesta ke komunikaci </a:t>
            </a:r>
            <a:endParaRPr b="0" lang="en-US" sz="40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Kvalita smluvního vztahu vždy závisí na přístupu obou stra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Smlouva je živý dokument, který nemá být pouhým potvrzením formali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Smlouvy svádí k porušování x současně dávají prostor k nastavení spoluprác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Je zcela zřejmé, že vždy budou tací, kteří pravidla nebudou dodržovat, ale to nic nemění na potřebě o věcech komunikovat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Děkuji za pozornos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539640" y="1628280"/>
            <a:ext cx="8040960" cy="4403880"/>
          </a:xfrm>
          <a:prstGeom prst="rect">
            <a:avLst/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Rodina a škola - instituce, které směřují k transmisi kultury, k rozvoji jednotlivce na pozadí vztahové sítě prostřednictvím vzdělávání a výchov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Narůstá váha školního kapitálu, dětství se „prodlužuje“ až do dospělosti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Škola není pouhým rámcem pro rozvíjení se, představuje určité nároky, zkoušky i konflikty, které vstupují do mezigeneračních vztahů a formují identitu žáka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Škola dává možnost opustit svoje rodiče a současně v nich pokračov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04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33cccc"/>
                </a:solidFill>
                <a:latin typeface="Times New Roman"/>
              </a:rPr>
              <a:t>Rodina a škola - milníky přípravy na život </a:t>
            </a: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</p:spTree>
  </p:cSld>
  <p:transition>
    <p:pull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33cccc"/>
                </a:solidFill>
                <a:latin typeface="Times New Roman"/>
              </a:rPr>
              <a:t>Vztah rodiny a školy</a:t>
            </a: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628280"/>
            <a:ext cx="77724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Škola a rodina mají přitom odlišná poslání, která jsou na sobě vzájemně závislá a proto je jejich </a:t>
            </a: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vztah často vyhrocený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Rodič postupuje jako spotřebitel a hledá školu, která mu pomůže naplnit očekávání vkládaná do jeho dět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Často postupuje v logice vlastních zkušeností a je limitován svými možnostmi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33cccc"/>
                </a:solidFill>
                <a:latin typeface="Times New Roman"/>
              </a:rPr>
              <a:t>Rodina  versus škola</a:t>
            </a:r>
            <a:endParaRPr b="0" lang="en-US" sz="40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Rodina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poskytuje emocionální zázemí, vztahy, vzory jednání i pracovních činností, způsoby náhledu na realitu i její posuzování a hodnocení, současně dává zkušenosti z prožitých konfliktů i radosti, setkání s  odměnou i treste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Škola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poskytuje pravidla, vědomosti, dovednosti a vytváří vztahy, které pomáhají jednotlivci najít místo ve společnosti a také…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33cccc"/>
                </a:solidFill>
                <a:latin typeface="Times New Roman"/>
              </a:rPr>
              <a:t>Školní mikrosvět a jeho rizika</a:t>
            </a: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Způsoby dosahování cílů školy jako instituc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Étos vzděláván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řítomnost osobních příběhů (učitel, ředitel, žák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Vztah a vztah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Samota a nesnadná komunik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Strach a zastrašován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33cccc"/>
                </a:solidFill>
                <a:latin typeface="Times New Roman"/>
              </a:rPr>
              <a:t>Školní psycholog a podpora komunikace </a:t>
            </a:r>
            <a:endParaRPr b="0" lang="en-US" sz="40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Vytvoření vnitřního systému komunikace, který ovlivňuje kvalitu vztahové sítě škol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Je </a:t>
            </a:r>
            <a:r>
              <a:rPr b="1" i="1" lang="cs-CZ" sz="2000" spc="-1" strike="noStrike">
                <a:solidFill>
                  <a:srgbClr val="ffffff"/>
                </a:solidFill>
                <a:latin typeface="Times New Roman"/>
              </a:rPr>
              <a:t>koordinátorem služeb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poskytovaných ŠPP s definováním odpovědností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Je </a:t>
            </a:r>
            <a:r>
              <a:rPr b="1" i="1" lang="cs-CZ" sz="2000" spc="-1" strike="noStrike">
                <a:solidFill>
                  <a:srgbClr val="ffffff"/>
                </a:solidFill>
                <a:latin typeface="Times New Roman"/>
              </a:rPr>
              <a:t>průvodcem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školní docházkou žáka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Je </a:t>
            </a:r>
            <a:r>
              <a:rPr b="1" i="1" lang="cs-CZ" sz="2000" spc="-1" strike="noStrike">
                <a:solidFill>
                  <a:srgbClr val="ffffff"/>
                </a:solidFill>
                <a:latin typeface="Times New Roman"/>
              </a:rPr>
              <a:t>specialistou na vztahy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vývoje a učení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Je </a:t>
            </a:r>
            <a:r>
              <a:rPr b="1" i="1" lang="cs-CZ" sz="2000" spc="-1" strike="noStrike">
                <a:solidFill>
                  <a:srgbClr val="ffffff"/>
                </a:solidFill>
                <a:latin typeface="Times New Roman"/>
              </a:rPr>
              <a:t>spolupracovníkem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učitelů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Je </a:t>
            </a:r>
            <a:r>
              <a:rPr b="1" i="1" lang="cs-CZ" sz="2000" spc="-1" strike="noStrike">
                <a:solidFill>
                  <a:srgbClr val="ffffff"/>
                </a:solidFill>
                <a:latin typeface="Times New Roman"/>
              </a:rPr>
              <a:t>poradcem a konzultantem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pro rodič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Představuje </a:t>
            </a:r>
            <a:r>
              <a:rPr b="1" i="1" lang="cs-CZ" sz="2000" spc="-1" strike="noStrike">
                <a:solidFill>
                  <a:srgbClr val="ffffff"/>
                </a:solidFill>
                <a:latin typeface="Times New Roman"/>
              </a:rPr>
              <a:t>jednotící prvek v intervenci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(koordinuje opatření školy, rodiny a dalších odborníků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Je </a:t>
            </a:r>
            <a:r>
              <a:rPr b="1" i="1" lang="cs-CZ" sz="2000" spc="-1" strike="noStrike">
                <a:solidFill>
                  <a:srgbClr val="ffffff"/>
                </a:solidFill>
                <a:latin typeface="Times New Roman"/>
              </a:rPr>
              <a:t>metodologem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komplexních nástrojů poznávání dětí a škol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Je hlavním </a:t>
            </a:r>
            <a:r>
              <a:rPr b="1" i="1" lang="cs-CZ" sz="2000" spc="-1" strike="noStrike">
                <a:solidFill>
                  <a:srgbClr val="ffffff"/>
                </a:solidFill>
                <a:latin typeface="Times New Roman"/>
              </a:rPr>
              <a:t>„nástrojem“ prevence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ve školním prostředí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Je tím, kdo pomáhá </a:t>
            </a:r>
            <a:r>
              <a:rPr b="1" i="1" lang="cs-CZ" sz="2000" spc="-1" strike="noStrike">
                <a:solidFill>
                  <a:srgbClr val="ffffff"/>
                </a:solidFill>
                <a:latin typeface="Times New Roman"/>
              </a:rPr>
              <a:t>vytvářet rovné podmínky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pro vzdělávání žáků s potřebou podpůrných opatření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33cccc"/>
                </a:solidFill>
                <a:latin typeface="Times New Roman"/>
              </a:rPr>
              <a:t>Škola nabízí</a:t>
            </a: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Konzultace s psychologem/speciálním pedagogem (telefonická, emailová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Krizové intervence, pomoc jednotlivcům i třídá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omoc pedagogům i rodičů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Snaha podporovat spolupráci s rodiči a vytvářet netradiční formy komunikace (setkávání s rodiči o víkendech, karnevaly, plesy, drakiády, koncerty, burzy, výlety do zahraničí…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33cccc"/>
                </a:solidFill>
                <a:latin typeface="Times New Roman"/>
              </a:rPr>
              <a:t>Škola občas také musí…</a:t>
            </a: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„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číhat“ na nespolupracující rodič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stupovat do rodin přes prostředníky (asistenti, OSPOD….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Komunikovat s hyperkritickými rodiči, zvládat agresivní rodiče (alkohol, drogy,vulgarita), pracovat s hyperprotektivními rodiči, zvládat komunikaci v době partnerských krizí a rozvodů, pomáhat matkám samoživitelkám a bezradným rodičům, pomáhat s existenciálními problémy…až po tzv. „průtokáč“…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33cccc"/>
                </a:solidFill>
                <a:latin typeface="Times New Roman"/>
              </a:rPr>
              <a:t>Hledání pomoci…</a:t>
            </a: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Vytváříme různé typy dokumentů : „Co je psáno, to je dáno..“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Vznikají smlouvy o nastavení podpůrných mechanismů při vzdělávání integrovaného žáka (IV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Smlouvy o seznámení s vnitřními pravidly školy (školní řád, působení školního psychologa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Zápisy z jednání výchovných komisí, které vymezují pravidla další spolupráce mezi žákem-školou -rodinou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Smlouvy o zajištění omlouvání absencí žáků (co rodiče zajistí, na co budou dohlížet, jak se budou vzájemně informovat..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Smlouvy na podporu změny v chování žáka, mají charak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krizového plánu (nepracující žák v hodině x práce po vyučování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Smlouvy v oblasti nefungujících vztahů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0T12:55:56Z</dcterms:created>
  <dc:creator>bodovav</dc:creator>
  <dc:description/>
  <dc:language>en-US</dc:language>
  <cp:lastModifiedBy>ZapletalovaJ</cp:lastModifiedBy>
  <dcterms:modified xsi:type="dcterms:W3CDTF">2011-04-04T06:42:45Z</dcterms:modified>
  <cp:revision>34</cp:revision>
  <dc:subject/>
  <dc:title>Koncepce poradenských služeb  poskytovaných ve škole </dc:title>
</cp:coreProperties>
</file>